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C7B-1D0F-430A-B9FF-BB4EFB79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8B2-3F80-4B0C-AC3D-D5594D81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1E3-26BE-4C2D-8248-2B6D6B70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3818-DEC1-4AB7-9BEA-346D7C76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C4A-D512-40D1-93BC-FECC6E93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716-1321-4842-BF83-8B12440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368C-BAB2-4402-AECB-8A27E767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7F28-2FEC-464D-A339-2FED7D8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87E1-EE33-43F7-AB33-CCF1788D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CED3-CA52-49D7-80E8-6B3FE37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FEE-580F-4F8F-A06F-4AD6C8D6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370-727B-4B42-9759-6A42E0C3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6E0F-FB23-4CD7-A706-F1DF05A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12C-665B-4248-97CD-2A2ECEF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CA7-D0A9-4DC7-A505-6B619DFE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ADA-5035-4973-830D-3A875E62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518E-63A1-475D-8470-9A991528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5E0-3865-435C-96C5-2FF1A7C3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6F5C-DFE5-441A-8021-516F244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5EE-C87C-434C-A3AD-637ECA22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526-A441-4182-A785-1AA942FF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D75-338C-4F19-BA06-FF703DD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95A-91F0-46CF-AEB1-489334A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08F-F3A3-403B-A0A7-3384B4B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5A3-C5E4-4C03-8865-039FA0EFAE5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ACB6-81E4-4BCC-BA9C-ED2216D8382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44792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Co je hlavní příčinou mnoha vážných nehod motocyklistů na Jamaj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Prohlédni si následující obrázk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5200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128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380880"/>
            <a:ext cx="78091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523880"/>
            <a:ext cx="7632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Verdana"/>
              </a:rPr>
              <a:t>Také jsi si toho všimnul</a:t>
            </a:r>
            <a:r>
              <a:rPr b="1" lang="it-IT" sz="4800" spc="-1" strike="noStrike">
                <a:solidFill>
                  <a:srgbClr val="ffffff"/>
                </a:solidFill>
                <a:latin typeface="Verdana"/>
              </a:rPr>
              <a:t>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Verdana"/>
              </a:rPr>
              <a:t>Nikdo nemá přilbu</a:t>
            </a:r>
            <a:r>
              <a:rPr b="1" lang="it-IT" sz="4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15:34:49Z</dcterms:created>
  <dc:creator/>
  <dc:description/>
  <dc:language>en-US</dc:language>
  <cp:lastModifiedBy>Patera</cp:lastModifiedBy>
  <dcterms:modified xsi:type="dcterms:W3CDTF">2006-02-11T22:12:40Z</dcterms:modified>
  <cp:revision>22</cp:revision>
  <dc:subject/>
  <dc:title>www.nardonardo.it</dc:title>
</cp:coreProperties>
</file>