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00F0-5107-4C3B-A6C0-DB51C463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2392-34DC-4691-9F40-D0710FE1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33C7-C6AD-42CD-B79F-356D5BCD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57B0-51E1-4A02-92E8-058A825CB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4C62-3A2B-4178-9959-8EC6FCE8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5746-179C-4DA3-A2EC-C0C6013E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A38B-1CF5-40D7-A41D-A0BA06DE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F71C-C2A6-42E2-B49D-C4E8E8D9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0A17-5D82-4828-9792-AE355037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CB48-6C4F-4595-B9A1-158BEF67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DEBE-CBE0-467D-B6F9-1CD834C5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4AFE-66F7-4C51-8EA5-40B29BD7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C363-D347-4146-9195-988AC307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D084-E556-45EA-BDB2-F253297D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032A-0D81-40CF-BF81-3D1D7902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1969-783D-4D7E-A7EB-2E799CF16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C4A1-3C5F-4499-844A-207CCC92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25FD-FC43-4B1D-9ADE-4FC27AF7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C401-1601-4D28-BF3D-EAAA999D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B97F-4A1E-4A02-8896-2E3D4C58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4DCB-1619-492D-9BA0-953780DA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4F1C-2584-45E3-A169-1CA57FB3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2481-6495-49BC-8CC4-B3871132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8AE3-D1F6-4B0B-A5E1-C8AC5D9C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E6D8-B923-496D-9B01-3C26926644A1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C9B9-763A-4414-9229-6EC2FA750849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38080" y="1447920"/>
            <a:ext cx="76327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Verdana"/>
              </a:rPr>
              <a:t>Co je hlavní příčinou mnoha vážných nehod motocyklistů na Jamajc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Verdana"/>
              </a:rPr>
              <a:t>Prohlédni si následující obrázk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71640" y="404640"/>
            <a:ext cx="7520040" cy="56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42920" y="549360"/>
            <a:ext cx="7128000" cy="53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26920" y="380880"/>
            <a:ext cx="7809120" cy="58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38080" y="1523880"/>
            <a:ext cx="76327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ff"/>
                </a:solidFill>
                <a:latin typeface="Verdana"/>
              </a:rPr>
              <a:t>Také jsi si toho všimnul</a:t>
            </a:r>
            <a:r>
              <a:rPr b="1" lang="it-IT" sz="4800" spc="-1" strike="noStrike">
                <a:solidFill>
                  <a:srgbClr val="ffffff"/>
                </a:solidFill>
                <a:latin typeface="Verdana"/>
              </a:rPr>
              <a:t>…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ff"/>
                </a:solidFill>
                <a:latin typeface="Verdana"/>
              </a:rPr>
              <a:t>Nikdo nemá přilbu</a:t>
            </a:r>
            <a:r>
              <a:rPr b="1" lang="it-IT" sz="4800" spc="-1" strike="noStrike">
                <a:solidFill>
                  <a:srgbClr val="ffffff"/>
                </a:solidFill>
                <a:latin typeface="Verdana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8T15:34:49Z</dcterms:created>
  <dc:creator/>
  <dc:description/>
  <dc:language>en-US</dc:language>
  <cp:lastModifiedBy>Patera</cp:lastModifiedBy>
  <dcterms:modified xsi:type="dcterms:W3CDTF">2006-02-11T22:12:40Z</dcterms:modified>
  <cp:revision>22</cp:revision>
  <dc:subject/>
  <dc:title>www.nardonardo.it</dc:title>
</cp:coreProperties>
</file>